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92611"/>
        <c:axId val="48241419"/>
      </c:barChart>
      <c:catAx>
        <c:axId val="44292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41419"/>
        <c:crosses val="autoZero"/>
        <c:auto val="1"/>
        <c:lblAlgn val="ctr"/>
        <c:lblOffset val="100"/>
        <c:noMultiLvlLbl val="0"/>
      </c:catAx>
      <c:valAx>
        <c:axId val="48241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92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D50-5B8F-4812-9726-879B853D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7F1-52F8-48F7-96CD-254FCA83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285-FF5B-4EE6-8781-E66431D3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373-7081-4892-806D-79F11EB9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C10-9E6E-40D6-878C-C91975AA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644-7CBE-452D-8D96-FBCD6DDF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A18-58A9-43C7-8A5B-77B5A9CD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966-358B-40EE-909D-00133AE0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8B3-7F43-46AA-8980-0B92F38B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F74-9C56-424B-9B05-B503D0D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2CE-B058-45F8-926B-E3FC3BD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0B5-3567-4D5F-B568-0DA45111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B08CC-DB6D-44D1-A9B6-0B027C74F1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