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283260"/>
        <c:axId val="54114745"/>
      </c:barChart>
      <c:catAx>
        <c:axId val="632832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114745"/>
        <c:crosses val="autoZero"/>
        <c:auto val="1"/>
        <c:lblAlgn val="ctr"/>
        <c:lblOffset val="100"/>
        <c:noMultiLvlLbl val="0"/>
      </c:catAx>
      <c:valAx>
        <c:axId val="541147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2832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8569-C4BB-47F5-9613-6A6B2FDAC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16B3-4F4D-424A-83A1-059AE7E73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E94A-5D10-42D9-BC7B-5F1BC52C7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CE37-45EA-44D3-A66C-801296595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1713-10B4-4792-9F29-B7B38146B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1FD2-14AD-41B3-82C2-7B9CA2813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3711-FA7E-468F-8D0D-47F726300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0479-A5E6-4FEA-B0C0-10E910EA9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31AC-C6EA-4E73-B833-3C665CEA0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A388-2E90-446F-81D3-C190D3E51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F5D4-2FA2-4F16-BAD9-4884A6D28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025C-685D-4A5F-B396-6EAFDDB9B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1C1E8A-8DB5-4B40-9D1F-9727EE38C09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